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0AA4-116B-4047-87E7-1D5D17E6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4E43-1CE6-4AF0-A98D-93092C3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C73D-2268-493D-B633-2641CB4C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4010-97DD-4863-986A-A3292CA6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B96E-42BB-403C-8848-A6CA9AED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271E-7E00-4790-B5A3-1DBDA904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45F-495F-4F04-BD95-1E3874E6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D550-ED0F-434A-A1A5-E7F6A1BB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1B25-B321-4807-BDF1-1853FACA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0B15-63D2-4392-A510-6C918C7A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6146-E51F-498A-84C6-E433455C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14FA-CF0C-4AA8-A23E-6D5CCEDF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79F-F55A-4D0F-87FF-8A22F2DF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2CC8-9834-4640-874A-E58ECE4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C4B6-9C9C-40D8-810E-5311621B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4E5B-BB29-483E-AD16-4B085431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6E9B-2BEF-4A22-BCBB-2F450069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AFB5-9C3A-4634-A9EF-4666C0EF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5091-1A91-49B1-884F-B659FDB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2590-26F2-4685-99B5-D0A2B015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AAF7-F972-48C0-9DCB-DDB8B7CA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165B-393C-4DA9-88CF-F3680EFC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9ED1-1261-471F-926B-FD40AB3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ED3D-9ECB-4725-AFBA-6D8F9AD5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43C0-4881-43D4-8F69-DC8FBBBF7D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E28E-B5FF-412F-AE45-31A5586409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 The Days of the Judges”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#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3:7 – 5: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61-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ick Overvie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ly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niel – and Cushan-rishathaim of Mesopota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hud – and the Moabites, Ammonites, &amp; Amalek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mgar – and the Philis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borah – and the Canaan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g of Debo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95680" y="0"/>
            <a:ext cx="46483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3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s left to try Israel, v. 1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he people provoked the Lord, v. 5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erves the king of Mesopotamia (Cushan-rishathaim) for eight years, v.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niel raised as their delive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s the king of Mesopota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ivers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enjoys peace for forty years, v. 9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495680" y="0"/>
            <a:ext cx="464832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 sins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ng of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ab attacked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laved them for 18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ed to the Lord, v. 12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hud kills Eglon, king of Mo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ys ten thousand Moab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nd rests 80 years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5-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mgar delivers Israel from the Philistines, v. 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ges 4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raelites again rebel against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31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d into the hands of Jabin, king of Canaan, v.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981080" y="1066680"/>
            <a:ext cx="2362320" cy="320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371240" y="2362320"/>
            <a:ext cx="3048120" cy="3504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19160" y="3733560"/>
            <a:ext cx="16002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95680" y="152280"/>
            <a:ext cx="4648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ried unto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raised up Deborah and Barak to deliver them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3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ber the Kenite, v.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ak attacked Jabin’s army at the Kisho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 army totally destroye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. 12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era, captain of Jabin's army esca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ed the tent of Jael, the wife of He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63680" indent="-23832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lled by a woman while hiding, v. 17-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990360" y="2743200"/>
            <a:ext cx="32763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Victory Song of Deborah And Barak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 5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It begins with praise to God. v. 2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substance of this song transmits the memory of this great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t Ends With A Prayer. V. 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76720" y="2286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286000"/>
            <a:ext cx="1981080" cy="1752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sopota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19320" y="1981080"/>
            <a:ext cx="38088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05740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3809880"/>
            <a:ext cx="6858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837720" y="4038120"/>
            <a:ext cx="22860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80880" y="2514600"/>
            <a:ext cx="30492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286000"/>
            <a:ext cx="2286000" cy="2133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1981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2514600"/>
            <a:ext cx="1676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ab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monit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alekit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ist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3657600"/>
            <a:ext cx="1143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hu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257440" y="3962520"/>
            <a:ext cx="6094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191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209680"/>
            <a:ext cx="1752840" cy="1676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aan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borah &amp; Bar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4952880"/>
            <a:ext cx="2819520" cy="916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amgar was “after” Ehud in noteworthiness, but during his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1905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vitu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rr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ming up…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 vs. Midian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03:23:46Z</dcterms:created>
  <dc:creator>Terry W. Benton</dc:creator>
  <dc:description/>
  <dc:language>en-US</dc:language>
  <cp:lastModifiedBy>Frank D Vines</cp:lastModifiedBy>
  <dcterms:modified xsi:type="dcterms:W3CDTF">2005-02-06T14:09:31Z</dcterms:modified>
  <cp:revision>13</cp:revision>
  <dc:subject/>
  <dc:title>In The Days of the Jud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